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61B-1CD8-4CD7-87F5-C3ACCDC7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13F-20A2-4C61-8F6C-B050A720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70A-64E6-45FE-91C2-61A0B0FC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D06-5939-48C2-ADD2-19157513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B603-240A-49D9-90D5-5831ECB8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811-F71C-4FF2-93EE-7F49E1B1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FC47-4022-458F-A2F5-55E32661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7268-0181-447B-A01D-C58A8CBD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3217-46EF-4E18-93D1-30F58D5E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4E5-1689-494B-8AB3-76FFBD00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D0BD-8C3B-4547-8FD1-05558D5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883-3752-40B2-8422-91E3E768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BA69-5230-4810-9A89-AD39DC71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0DA1-A51B-4A51-A007-B865F4A9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83DF-6DC5-460D-A4F4-43F2F746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D1C0-2455-4B8E-BF9F-2A8C059C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4D8B-E07E-4A6A-802D-DA2EFB03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951-8B0A-48FD-A6C4-68AD43E9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510-84C7-4ECA-A284-7CA0A640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395-F53C-45C4-A725-A3932BB2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FEA-D840-4B81-9B1A-012E9CA7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DE9-5CA4-4370-8CB6-6A77EDA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AA2-7E12-43BC-9487-4A4E0F8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5DF-2C05-4578-B4B0-F4895B5B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cd5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cd5f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1994-0F8A-440A-A602-92DE44147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83EC-3DD2-4F61-BE1D-17B531188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d5f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cd5f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1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radeshow Connections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d5f4"/>
                </a:solidFill>
                <a:latin typeface="Arial"/>
              </a:rPr>
              <a:t>Angelique Destruel  &amp; Ronald Staugaard</a:t>
            </a:r>
            <a:endParaRPr b="0" lang="en-US" sz="2400" spc="-1" strike="noStrike">
              <a:solidFill>
                <a:srgbClr val="9cd5f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Project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905120"/>
          <a:ext cx="9144000" cy="2913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686800" y="2133720"/>
            <a:ext cx="380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38080" y="457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808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 Plus Pricing – Analyzing scen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458200" cy="2133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57200" y="3249720"/>
            <a:ext cx="8305920" cy="3262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38080" y="3254400"/>
            <a:ext cx="74678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95680" cy="2054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4647960" cy="2168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57800" y="1981080"/>
            <a:ext cx="3657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cing Selection – based on estimated annual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695160"/>
          <a:ext cx="8001000" cy="540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695160"/>
                    <a:ext cx="8001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57200" y="63244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tainty of 80% uses for above CB calculations (see backu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Final Decis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eaf4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18493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dbeacf"/>
              </a:gs>
              <a:gs pos="100000">
                <a:srgbClr val="70b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88620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cae5f9"/>
              </a:gs>
              <a:gs pos="100000">
                <a:srgbClr val="2a99e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40360" y="39625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9cd5f4"/>
              </a:gs>
              <a:gs pos="100000">
                <a:srgbClr val="678da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00196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ae2f3"/>
              </a:gs>
              <a:gs pos="100000">
                <a:srgbClr val="6b8ed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70680" y="230652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2a83"/>
                </a:solidFill>
                <a:latin typeface="Verdana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87880" y="25081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2a83"/>
                </a:solidFill>
                <a:latin typeface="Verdana"/>
              </a:rPr>
              <a:t>Forec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57880" y="44197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2a83"/>
                </a:solidFill>
                <a:latin typeface="Verdana"/>
              </a:rPr>
              <a:t>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2960" y="43369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2a83"/>
                </a:solidFill>
                <a:latin typeface="Verdana"/>
              </a:rPr>
              <a:t>Prof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1387600">
            <a:off x="52578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stal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167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Back-up Slides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Basic Servic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and coordination of project plan inclu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y/accurate paper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herence to reg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stic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/vis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 services - plants, a water cooler, coffee service, chairs, phone and fax lines, electrical outl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aurant reserva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ok extra meeting roo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 the catering and déc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Kit” – Easy access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meeting statistics and summary repo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s with Assoc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Start Up Costs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7323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Monthly Overhead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71708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Venti – Cost Estimat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7880" y="1558800"/>
            <a:ext cx="7780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17524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Overview of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51460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ost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32767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Pricing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40384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Sales Proje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82616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f5a16"/>
              </a:gs>
              <a:gs pos="50000">
                <a:srgbClr val="21c531"/>
              </a:gs>
              <a:gs pos="100000">
                <a:srgbClr val="0f5a1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Business V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8006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Grande - Cost Estimat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30160" y="1706400"/>
            <a:ext cx="76280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all – Cost Estimat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560" y="1676520"/>
            <a:ext cx="8008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Personnel Requirements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52480" y="2209680"/>
          <a:ext cx="5105520" cy="2911680"/>
        </p:xfrm>
        <a:graphic>
          <a:graphicData uri="http://schemas.openxmlformats.org/drawingml/2006/table">
            <a:tbl>
              <a:tblPr/>
              <a:tblGrid>
                <a:gridCol w="1109520"/>
                <a:gridCol w="1320840"/>
                <a:gridCol w="1352520"/>
                <a:gridCol w="13226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tistic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Regular" (10x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Large" (10x2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Big Gulp" (20x2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.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ard Devi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304920"/>
          <a:ext cx="9144000" cy="22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914400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28600" y="3413160"/>
            <a:ext cx="6111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477120" cy="2959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371600" y="3505320"/>
            <a:ext cx="64771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467480" cy="2860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73915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3981600" cy="2469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724280" y="622440"/>
            <a:ext cx="3810240" cy="2425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85800" y="3657600"/>
            <a:ext cx="3657600" cy="232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648320" y="3581280"/>
            <a:ext cx="36576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oncept Overview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show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8,000 medical devic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,000 medical tradeshows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% Marketing Budget to tradesh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90440" y="3975120"/>
            <a:ext cx="1513080" cy="1511280"/>
            <a:chOff x="190440" y="3975120"/>
            <a:chExt cx="1513080" cy="1511280"/>
          </a:xfrm>
        </p:grpSpPr>
        <p:sp>
          <p:nvSpPr>
            <p:cNvPr id="94" name=""/>
            <p:cNvSpPr/>
            <p:nvPr/>
          </p:nvSpPr>
          <p:spPr>
            <a:xfrm>
              <a:off x="190440" y="397512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cd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440" y="397512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cd5f4"/>
                </a:gs>
                <a:gs pos="100000">
                  <a:srgbClr val="b9e0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440" y="407376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47283"/>
                </a:gs>
                <a:gs pos="50000">
                  <a:srgbClr val="9cd5f4"/>
                </a:gs>
                <a:gs pos="100000">
                  <a:srgbClr val="5472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440" y="407376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b6776"/>
                </a:gs>
                <a:gs pos="100000">
                  <a:srgbClr val="9cd5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320" y="413964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76270"/>
                </a:gs>
                <a:gs pos="100000">
                  <a:srgbClr val="9cd5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463760" y="219852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cd5f4"/>
              </a:gs>
              <a:gs pos="100000">
                <a:srgbClr val="ddf0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516800" y="3909960"/>
            <a:ext cx="1513080" cy="1511280"/>
            <a:chOff x="7516800" y="3909960"/>
            <a:chExt cx="1513080" cy="1511280"/>
          </a:xfrm>
        </p:grpSpPr>
        <p:sp>
          <p:nvSpPr>
            <p:cNvPr id="101" name=""/>
            <p:cNvSpPr/>
            <p:nvPr/>
          </p:nvSpPr>
          <p:spPr>
            <a:xfrm>
              <a:off x="7516800" y="39099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e993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16800" y="39099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d8c3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15800" y="40086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6521a"/>
                </a:gs>
                <a:gs pos="50000">
                  <a:srgbClr val="be9932"/>
                </a:gs>
                <a:gs pos="100000">
                  <a:srgbClr val="6652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15800" y="40086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c4a18"/>
                </a:gs>
                <a:gs pos="100000">
                  <a:srgbClr val="be99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81680" y="407448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5746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43280" y="3922560"/>
            <a:ext cx="1512720" cy="1511280"/>
            <a:chOff x="1943280" y="3922560"/>
            <a:chExt cx="1512720" cy="1511280"/>
          </a:xfrm>
        </p:grpSpPr>
        <p:sp>
          <p:nvSpPr>
            <p:cNvPr id="107" name=""/>
            <p:cNvSpPr/>
            <p:nvPr/>
          </p:nvSpPr>
          <p:spPr>
            <a:xfrm>
              <a:off x="1943280" y="39225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b04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3280" y="39225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9ac7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2280" y="40212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5e22"/>
                </a:gs>
                <a:gs pos="50000">
                  <a:srgbClr val="70b040"/>
                </a:gs>
                <a:gs pos="100000">
                  <a:srgbClr val="3c5e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2280" y="40212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51f"/>
                </a:gs>
                <a:gs pos="100000">
                  <a:srgbClr val="70b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08160" y="408708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3511d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523880" y="1014480"/>
            <a:ext cx="5639040" cy="1003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cd5f4"/>
              </a:gs>
              <a:gs pos="50000">
                <a:srgbClr val="476270"/>
              </a:gs>
              <a:gs pos="100000">
                <a:srgbClr val="9cd5f4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Trade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440" y="4546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07040" y="45338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5800" y="45464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64320" y="3922560"/>
            <a:ext cx="151272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b8e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4320" y="3922560"/>
            <a:ext cx="1512720" cy="15112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5498d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862600" y="4021200"/>
            <a:ext cx="1315800" cy="1314360"/>
            <a:chOff x="5862600" y="4021200"/>
            <a:chExt cx="1315800" cy="1314360"/>
          </a:xfrm>
        </p:grpSpPr>
        <p:sp>
          <p:nvSpPr>
            <p:cNvPr id="119" name=""/>
            <p:cNvSpPr/>
            <p:nvPr/>
          </p:nvSpPr>
          <p:spPr>
            <a:xfrm>
              <a:off x="5862600" y="40212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2600" y="40212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003162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29200" y="4087800"/>
              <a:ext cx="1182600" cy="118116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6120" y="45324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848040" y="3909960"/>
            <a:ext cx="1513080" cy="1511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b8e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9200" y="3909960"/>
            <a:ext cx="1513080" cy="1511280"/>
          </a:xfrm>
          <a:prstGeom prst="ellipse">
            <a:avLst/>
          </a:prstGeom>
          <a:gradFill rotWithShape="0">
            <a:gsLst>
              <a:gs pos="0">
                <a:srgbClr val="b13cb4"/>
              </a:gs>
              <a:gs pos="100000">
                <a:srgbClr val="ca7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946680" y="4008600"/>
            <a:ext cx="1315800" cy="1314360"/>
            <a:chOff x="3946680" y="4008600"/>
            <a:chExt cx="1315800" cy="1314360"/>
          </a:xfrm>
        </p:grpSpPr>
        <p:sp>
          <p:nvSpPr>
            <p:cNvPr id="126" name=""/>
            <p:cNvSpPr/>
            <p:nvPr/>
          </p:nvSpPr>
          <p:spPr>
            <a:xfrm>
              <a:off x="3946680" y="40086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46680" y="40086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551d57"/>
                </a:gs>
                <a:gs pos="100000">
                  <a:srgbClr val="b13cb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3280" y="4075200"/>
              <a:ext cx="1182600" cy="1181160"/>
            </a:xfrm>
            <a:prstGeom prst="ellipse">
              <a:avLst/>
            </a:prstGeom>
            <a:gradFill rotWithShape="0">
              <a:gsLst>
                <a:gs pos="0">
                  <a:srgbClr val="511b52"/>
                </a:gs>
                <a:gs pos="100000">
                  <a:srgbClr val="b13c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79160" y="451944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70b040"/>
                  </a:solidFill>
                  <a:uFillTx/>
                  <a:latin typeface="Arial"/>
                  <a:hlinkClick r:id="rId2" action="ppaction://hlinksldjump"/>
                </a:rPr>
                <a:t>Logistic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oncept Overview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show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8ed3"/>
                </a:solidFill>
                <a:latin typeface="Arial"/>
              </a:rPr>
              <a:t>38,000 medical devic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b8ed3"/>
                </a:solidFill>
                <a:uFillTx/>
                <a:latin typeface="Arial"/>
              </a:rPr>
              <a:t>50,000</a:t>
            </a:r>
            <a:r>
              <a:rPr b="0" lang="en-US" sz="3200" spc="-1" strike="noStrike">
                <a:solidFill>
                  <a:srgbClr val="6b8ed3"/>
                </a:solidFill>
                <a:latin typeface="Arial"/>
              </a:rPr>
              <a:t> medical tradeshows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8ed3"/>
                </a:solidFill>
                <a:latin typeface="Arial"/>
              </a:rPr>
              <a:t>75% Marketing Budget to tradesh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sonal (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ad on current resou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he: small to mid-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: management and/or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ost Analysis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2308320"/>
          <a:ext cx="8610480" cy="127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308320"/>
                    <a:ext cx="861048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152280"/>
          <a:ext cx="9144000" cy="335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280"/>
                    <a:ext cx="91440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0" y="3803760"/>
          <a:ext cx="9144000" cy="2825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803760"/>
                    <a:ext cx="914400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295280" y="2514600"/>
            <a:ext cx="6485040" cy="32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666880" y="3249720"/>
            <a:ext cx="64771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0200" y="3780000"/>
            <a:ext cx="6111720" cy="30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0" y="601560"/>
          <a:ext cx="9144000" cy="222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01560"/>
                    <a:ext cx="914400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514600" y="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: “Grande” (10x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600200" y="3413160"/>
            <a:ext cx="6111720" cy="344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0" y="601560"/>
          <a:ext cx="9144000" cy="222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01560"/>
                    <a:ext cx="914400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514600" y="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: “Grande” (10x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00:48Z</dcterms:created>
  <dc:creator>Angelique Destruel</dc:creator>
  <dc:description/>
  <cp:keywords/>
  <dc:language>en-US</dc:language>
  <cp:lastModifiedBy>Angelique Destruel</cp:lastModifiedBy>
  <dcterms:modified xsi:type="dcterms:W3CDTF">2006-11-30T19:29:33Z</dcterms:modified>
  <cp:revision>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33</vt:lpwstr>
  </property>
</Properties>
</file>